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gif" ContentType="image/gif"/>
  <Override PartName="/ppt/media/image7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12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C6BE-80DC-4F15-9F63-AC6EB49C3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person reads book…Others hold up cards when strategy is being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674-911F-4C95-88A6-3854A359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972-F6B4-4986-801F-6716B987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6EB8-F11E-4ED8-BF96-7CE77CB3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326-BA98-4B9B-B833-252D768F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33A-A385-43C3-A687-FB00EB05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B33-0373-4F5F-8275-DB42FF1B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DE5-69A5-49CF-848D-10B31CB1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1AE2-B23D-4E44-8609-C584CB3E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439-5B4B-4CFC-AB58-F3DADB29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CEA-9B92-40EE-8BF3-207B3B8F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A894-8D87-4686-A210-B4C29279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AEF-A6C8-4A7F-B512-583737BB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4F60-DB98-4697-9322-EB92E8791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aderstoolbox.wikispaces.com/Resources" TargetMode="External"/><Relationship Id="rId3" Type="http://schemas.openxmlformats.org/officeDocument/2006/relationships/hyperlink" Target="http://www.u46teachers.org/mosaic/tools/Strategy Rubrics.doc" TargetMode="External"/><Relationship Id="rId4" Type="http://schemas.openxmlformats.org/officeDocument/2006/relationships/hyperlink" Target="http://liberty.k12.mo.us/jh/staffresources/documents/Comp  Strategies with questions.pdf" TargetMode="External"/><Relationship Id="rId5" Type="http://schemas.openxmlformats.org/officeDocument/2006/relationships/hyperlink" Target="http://www.ecboe.org/dena/Reading Strategies.htm" TargetMode="External"/><Relationship Id="rId6" Type="http://schemas.openxmlformats.org/officeDocument/2006/relationships/hyperlink" Target="http://www.smbsd.org/page.cfm?p=904" TargetMode="External"/><Relationship Id="rId7" Type="http://schemas.openxmlformats.org/officeDocument/2006/relationships/hyperlink" Target="http://www.cccoe.net/tdf/Beltramo/rs/StrategiesBookmark.pdf" TargetMode="External"/><Relationship Id="rId8" Type="http://schemas.openxmlformats.org/officeDocument/2006/relationships/hyperlink" Target="http://www.cccoe.net/tdf/Beltramo/rs/StrategiesBookmark.pdf" TargetMode="Externa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ers Tool Box: Keys to Building Mea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yn Marsden-Mentor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roll County Public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cmarsd@k12.carr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tool_chest_peek_sm_wht.gif"/>
          <p:cNvPicPr/>
          <p:nvPr/>
        </p:nvPicPr>
        <p:blipFill>
          <a:blip r:embed="rId2"/>
          <a:stretch/>
        </p:blipFill>
        <p:spPr>
          <a:xfrm>
            <a:off x="6400800" y="457200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362320" y="2438280"/>
            <a:ext cx="374328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685800" y="1600200"/>
            <a:ext cx="807732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Reading for Meaning isOur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ission Every Time We Read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structing meaning is our goal every time we read, how can we teach children the importance of using reading strategies to build understan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aders Tool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take for a construction worker to build a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… What ty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take for a reader to build mea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…What ty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way to teach students the importance of using reading strategies to build meaning or understanding is to make the analogy to the tools a carpenter uses to build a hou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 rot="20069400">
            <a:off x="5105520" y="2133720"/>
            <a:ext cx="1049040" cy="1471320"/>
          </a:xfrm>
          <a:prstGeom prst="rect">
            <a:avLst/>
          </a:prstGeom>
          <a:ln w="0">
            <a:noFill/>
          </a:ln>
        </p:spPr>
      </p:pic>
      <p:pic>
        <p:nvPicPr>
          <p:cNvPr id="76" name="j0314355[1]" descr=""/>
          <p:cNvPicPr/>
          <p:nvPr/>
        </p:nvPicPr>
        <p:blipFill>
          <a:blip r:embed="rId3"/>
          <a:stretch/>
        </p:blipFill>
        <p:spPr>
          <a:xfrm>
            <a:off x="5410080" y="3886200"/>
            <a:ext cx="714600" cy="1839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 rot="1926600">
            <a:off x="6541560" y="1916280"/>
            <a:ext cx="1667160" cy="1338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 rot="19389600">
            <a:off x="7518240" y="3843360"/>
            <a:ext cx="1295640" cy="1035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 rot="1764000">
            <a:off x="7009920" y="457200"/>
            <a:ext cx="1447920" cy="1033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6248520" y="5181480"/>
            <a:ext cx="1439640" cy="102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ould You Use This Lesson in Your Class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beginning of the year to set a purpose for learning reading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out the year to assess where students are with their understanding how the strategies can be used to build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ime students add a new tool to their tool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year to reinforce the concept of reading strategies are what good readers use to build meaning when they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content area instruction to remind students that the same strategies they use in reading can help them build meaning when they read in the conten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This Lesson Be Extend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 P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267080" y="3581280"/>
            <a:ext cx="7574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Point and Handouts from this session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eaderstoolbox.wikispaces.com/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brics by Grade Level to Assess Reading Strategies Use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u46teachers.org/mosaic/tools/Strategy%20Rubrics.do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on Strategies Poster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iberty.k12.mo.us/jh/staffresources/documents/Comp%20%20Strategies%20with%20questions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on Strategies with Posters and Examples of Anchor Charts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cboe.org/dena/Reading%20Strategie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ta Maria Bonita School District Posters and Charts for Reading and Comprehension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smbsd.org/page.cfm?p=9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ing Strategy Bookmark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cccoe.net/tdf/Beltramo/rs/StrategiesBookmark.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or Though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d Like to Sh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365112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295280"/>
          <a:ext cx="7772400" cy="4067280"/>
        </p:xfrm>
        <a:graphic>
          <a:graphicData uri="http://schemas.openxmlformats.org/drawingml/2006/table">
            <a:tbl>
              <a:tblPr/>
              <a:tblGrid>
                <a:gridCol w="2590920"/>
                <a:gridCol w="2236680"/>
                <a:gridCol w="2944800"/>
              </a:tblGrid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rm Up (10 minute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Focus Participant Learn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all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Reading Strategies and How they Help Students Build Mea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0 minut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Give Participants a Chance to Recall Strategies their Students Use to Build Mea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ner Discussion, Power 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monstration of Readers Tool Box Les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5 minut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 How the Readers Toolbox Can Introduced to Students and How it Can Help Students Build Mea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eo, Group Discu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s (10 minut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Address Concer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sure     (5  minut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feedback for presen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s/De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Reading Strategies Are Our Students U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predictions propels the reader forward into the text.  Predictions give the reader a purpose for reading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What should readers think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I think will happen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___ happened, I think ____ will happen n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m guessing this will be about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tle/heading/pictures make me think 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the author hasn’t told me this, I think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Taken from Capistrano Unified School Distri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ing about the topic, title, author and events helps students bring their background knowledge into the text to deepen under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What should readers be think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is remind me of someth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this ever happened to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I know someone like him or her? Am I like this charac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I ever felt this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is information confirm or conflict with what I’ve read in other sour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Taken from Capistrano Unified School Distri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help students build an awareness of what they do not know  and develop a purpose for reading on or re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What should readers be think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the author saying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that happe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id this character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kes me wonder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Taken from Capistrano Unified School Distri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tudents monitor their comprehension and realize that something does not make sense, they are able to apply, “fix up” strategies to improve their understanding of the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What should readers be think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making sen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, what’s going on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ve I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I need to rer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this word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ext clues help me fill in the missing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Taken from Capistrano Unified School Distri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iz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ing helps students pull all of the major events of a story together to demonstrate understa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What should readers be thin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ory is mainly ab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thor’s most important ideas we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this story organiz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ideas in the text presented with convincing evid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aken from Capistrano Unified School Distr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ing helps students deepen their understanding of the text by letting them see in their minds what the author has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What should readers be think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ictures/scenes in my mi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I hear, taste, feel, or sm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the characters, events, setting look like in my mi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 picture this new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Taken from Capistrano Unified School Distri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8:51:59Z</dcterms:created>
  <dc:creator>ccps</dc:creator>
  <dc:description/>
  <cp:keywords/>
  <dc:language>en-US</dc:language>
  <cp:lastModifiedBy>ccps</cp:lastModifiedBy>
  <dcterms:modified xsi:type="dcterms:W3CDTF">2008-04-15T00:43:23Z</dcterms:modified>
  <cp:revision>10</cp:revision>
  <dc:subject/>
  <dc:title>Reader Tool Box: Keys to Building Mea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33</vt:lpwstr>
  </property>
</Properties>
</file>